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C001-D28A-43DF-8D06-20C12ED10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01C4-8105-4D3F-ACCA-AC478B078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DA62-8439-49D4-980A-C2D9AC9ED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0E23-8185-48BC-922E-E89FA37F6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8307-217A-4A37-9C4A-2F5B3319D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2B1E-F012-4486-B0FF-9068B315A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1ED8-4687-4B77-9C47-1AF314EED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1B9C-A3BE-4AD1-97A3-7C2B57380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4677-B550-4A20-895C-A2D7A9C40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6912-DDD8-4137-A648-B615C109D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D1BB-7DE9-4B62-8999-21F30B50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B7B3-6E13-425E-9918-643CAE55F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50ED2-E6CD-4E1A-AA19-4FAD902C37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-458640"/>
            <a:ext cx="8794800" cy="7409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ff00"/>
                </a:solidFill>
                <a:latin typeface="Arial"/>
                <a:ea typeface="Arial"/>
              </a:rPr>
              <a:t>Господ Бог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ff00"/>
                </a:solidFill>
                <a:latin typeface="Arial"/>
                <a:ea typeface="Arial"/>
              </a:rPr>
              <a:t>е цар на царете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ff00"/>
                </a:solidFill>
                <a:latin typeface="Arial"/>
                <a:ea typeface="Arial"/>
              </a:rPr>
              <a:t>слава, Алилуя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ff00"/>
                </a:solidFill>
                <a:latin typeface="Arial"/>
                <a:ea typeface="Arial"/>
              </a:rPr>
              <a:t>Исус,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ff00"/>
                </a:solidFill>
                <a:latin typeface="Arial"/>
                <a:ea typeface="Arial"/>
              </a:rPr>
              <a:t>принцът на мира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ff00"/>
                </a:solidFill>
                <a:latin typeface="Arial"/>
                <a:ea typeface="Arial"/>
              </a:rPr>
              <a:t>Алилуя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45964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66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1875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9T10:16:47Z</dcterms:created>
  <dc:creator>TrifonTrifonow</dc:creator>
  <dc:description/>
  <dc:language>en-US</dc:language>
  <cp:lastModifiedBy>TrifonTrifonow</cp:lastModifiedBy>
  <dcterms:modified xsi:type="dcterms:W3CDTF">2005-09-19T10:35:00Z</dcterms:modified>
  <cp:revision>3</cp:revision>
  <dc:subject/>
  <dc:title>Slide 1</dc:title>
</cp:coreProperties>
</file>